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Arvore Criativa\Desktop\Tributo ao Futuro\Guia Crescer em Rede (Volume 3)\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C:\Users\Arvore Criativa\Desktop\Tributo ao Futuro\Guia Crescer em Rede (Volume 3)\Ca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Retângulo 5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d0d0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CaixaDeTexto 6"/>
          <p:cNvSpPr/>
          <p:nvPr/>
        </p:nvSpPr>
        <p:spPr>
          <a:xfrm>
            <a:off x="1500120" y="38750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rescer em Rede - Encontro 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tângulo 9"/>
          <p:cNvSpPr/>
          <p:nvPr/>
        </p:nvSpPr>
        <p:spPr>
          <a:xfrm>
            <a:off x="0" y="4500720"/>
            <a:ext cx="9144000" cy="1000080"/>
          </a:xfrm>
          <a:prstGeom prst="rect">
            <a:avLst/>
          </a:prstGeom>
          <a:solidFill>
            <a:srgbClr val="e46c0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aixaDeTexto 10"/>
          <p:cNvSpPr/>
          <p:nvPr/>
        </p:nvSpPr>
        <p:spPr>
          <a:xfrm>
            <a:off x="428760" y="464328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 e compreender por meio de nuvens d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7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Fundação Odebrecht"/>
          <p:cNvPicPr/>
          <p:nvPr/>
        </p:nvPicPr>
        <p:blipFill>
          <a:blip r:embed="rId2"/>
          <a:stretch/>
        </p:blipFill>
        <p:spPr>
          <a:xfrm>
            <a:off x="1571760" y="6099120"/>
            <a:ext cx="1357200" cy="34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http://www.institutocrescer.org.br/imagens/cabecalho_logo.jpg"/>
          <p:cNvPicPr/>
          <p:nvPr/>
        </p:nvPicPr>
        <p:blipFill>
          <a:blip r:embed="rId3"/>
          <a:stretch/>
        </p:blipFill>
        <p:spPr>
          <a:xfrm>
            <a:off x="142920" y="592920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Users\Arvore Criativa\Google Drive\Slides Guia Crescer em Rede (Volume 3)\Slides modificados\unnamed.jpg"/>
          <p:cNvPicPr/>
          <p:nvPr/>
        </p:nvPicPr>
        <p:blipFill>
          <a:blip r:embed="rId4"/>
          <a:stretch/>
        </p:blipFill>
        <p:spPr>
          <a:xfrm>
            <a:off x="4000680" y="5913360"/>
            <a:ext cx="85716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C:\Users\Arvore Criativa\Google Drive\Slides Guia Crescer em Rede (Volume 3)\Slides modificados\Logomarca - NOVA.jpg"/>
          <p:cNvPicPr/>
          <p:nvPr/>
        </p:nvPicPr>
        <p:blipFill>
          <a:blip r:embed="rId5"/>
          <a:stretch/>
        </p:blipFill>
        <p:spPr>
          <a:xfrm>
            <a:off x="5000760" y="5786280"/>
            <a:ext cx="731880" cy="97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:\Users\Arvore Criativa\Google Drive\Slides Guia Crescer em Rede (Volume 3)\Slides modificados\LOGO-NP.jpg"/>
          <p:cNvPicPr/>
          <p:nvPr/>
        </p:nvPicPr>
        <p:blipFill>
          <a:blip r:embed="rId6"/>
          <a:stretch/>
        </p:blipFill>
        <p:spPr>
          <a:xfrm>
            <a:off x="6000840" y="6040440"/>
            <a:ext cx="1214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7"/>
          <a:stretch/>
        </p:blipFill>
        <p:spPr>
          <a:xfrm>
            <a:off x="3071880" y="6046920"/>
            <a:ext cx="744480" cy="45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http://salaaberta.files.wordpress.com/2013/04/net-educacao.jpg"/>
          <p:cNvPicPr/>
          <p:nvPr/>
        </p:nvPicPr>
        <p:blipFill>
          <a:blip r:embed="rId8"/>
          <a:stretch/>
        </p:blipFill>
        <p:spPr>
          <a:xfrm>
            <a:off x="7478640" y="5958000"/>
            <a:ext cx="1463760" cy="6318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10"/>
          <p:cNvSpPr/>
          <p:nvPr/>
        </p:nvSpPr>
        <p:spPr>
          <a:xfrm>
            <a:off x="4857840" y="559584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a3400"/>
                </a:solidFill>
                <a:latin typeface="Calibri"/>
              </a:rPr>
              <a:t>Apoi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ângulo 6"/>
          <p:cNvSpPr/>
          <p:nvPr/>
        </p:nvSpPr>
        <p:spPr>
          <a:xfrm>
            <a:off x="500040" y="131436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ara formatar a nuvem de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 Tagxe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Placeholder 11" descr="Captura de tela 2014-07-17 22.58.43.png"/>
          <p:cNvPicPr/>
          <p:nvPr/>
        </p:nvPicPr>
        <p:blipFill>
          <a:blip r:embed="rId1"/>
          <a:srcRect l="1221" t="0" r="1221" b="0"/>
          <a:stretch/>
        </p:blipFill>
        <p:spPr>
          <a:xfrm>
            <a:off x="1285920" y="1857240"/>
            <a:ext cx="6008760" cy="417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ular Callout 5"/>
          <p:cNvSpPr/>
          <p:nvPr/>
        </p:nvSpPr>
        <p:spPr>
          <a:xfrm>
            <a:off x="7086600" y="2428920"/>
            <a:ext cx="1774800" cy="3786120"/>
          </a:xfrm>
          <a:prstGeom prst="wedgeRectCallout">
            <a:avLst>
              <a:gd name="adj1" fmla="val -295939"/>
              <a:gd name="adj2" fmla="val -15990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ós a geração da nuvem de </a:t>
            </a: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clique nas setas para experimentar as possibilidades de formatação de cores, fontes, orientação e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Placeholder 11" descr="Captura de tela 2014-07-17 22.58.43.png"/>
          <p:cNvPicPr/>
          <p:nvPr/>
        </p:nvPicPr>
        <p:blipFill>
          <a:blip r:embed="rId1"/>
          <a:srcRect l="1221" t="9780" r="74242" b="2336"/>
          <a:stretch/>
        </p:blipFill>
        <p:spPr>
          <a:xfrm>
            <a:off x="258840" y="1285920"/>
            <a:ext cx="1904760" cy="4778280"/>
          </a:xfrm>
          <a:prstGeom prst="rect">
            <a:avLst/>
          </a:prstGeom>
          <a:ln w="0">
            <a:noFill/>
          </a:ln>
        </p:spPr>
      </p:pic>
      <p:sp>
        <p:nvSpPr>
          <p:cNvPr id="88" name="Rectangular Callout 4"/>
          <p:cNvSpPr/>
          <p:nvPr/>
        </p:nvSpPr>
        <p:spPr>
          <a:xfrm>
            <a:off x="1785960" y="4643280"/>
            <a:ext cx="2014560" cy="1571760"/>
          </a:xfrm>
          <a:prstGeom prst="wedgeRectCallout">
            <a:avLst>
              <a:gd name="adj1" fmla="val -51162"/>
              <a:gd name="adj2" fmla="val -77870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1. Para selecionar uma imagem para conter a nuvem de tags, clique em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Shap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aptura de tela 2014-07-17 23.17.16.png"/>
          <p:cNvPicPr/>
          <p:nvPr/>
        </p:nvPicPr>
        <p:blipFill>
          <a:blip r:embed="rId2"/>
          <a:stretch/>
        </p:blipFill>
        <p:spPr>
          <a:xfrm>
            <a:off x="4762440" y="1297080"/>
            <a:ext cx="3862440" cy="50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ular Callout 6"/>
          <p:cNvSpPr/>
          <p:nvPr/>
        </p:nvSpPr>
        <p:spPr>
          <a:xfrm>
            <a:off x="2560680" y="2562120"/>
            <a:ext cx="2014560" cy="1876680"/>
          </a:xfrm>
          <a:prstGeom prst="wedgeRectCallout">
            <a:avLst>
              <a:gd name="adj1" fmla="val 76888"/>
              <a:gd name="adj2" fmla="val 124277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3. Se preferir, é possível fazer upload de uma imagem para conter a nuvem d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ular Callout 7"/>
          <p:cNvSpPr/>
          <p:nvPr/>
        </p:nvSpPr>
        <p:spPr>
          <a:xfrm>
            <a:off x="6942240" y="1528920"/>
            <a:ext cx="2014560" cy="2185920"/>
          </a:xfrm>
          <a:prstGeom prst="wedgeRectCallout">
            <a:avLst>
              <a:gd name="adj1" fmla="val -36796"/>
              <a:gd name="adj2" fmla="val 129638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4. Se não quiser inserir a nuvem de tags em uma imagem, basta escolher Classic Cloud Horizontal ou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ular Callout 8"/>
          <p:cNvSpPr/>
          <p:nvPr/>
        </p:nvSpPr>
        <p:spPr>
          <a:xfrm>
            <a:off x="2560680" y="1220760"/>
            <a:ext cx="2014560" cy="1249560"/>
          </a:xfrm>
          <a:prstGeom prst="wedgeRectCallout">
            <a:avLst>
              <a:gd name="adj1" fmla="val 103634"/>
              <a:gd name="adj2" fmla="val -2981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2. Selecione uma das imagens disponíveisna  gal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6"/>
          <p:cNvSpPr/>
          <p:nvPr/>
        </p:nvSpPr>
        <p:spPr>
          <a:xfrm>
            <a:off x="500040" y="131436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Mais opções de formatação para a nuvem de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 Tagxe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aptura de tela 2014-07-17 23.21.01.png"/>
          <p:cNvPicPr/>
          <p:nvPr/>
        </p:nvPicPr>
        <p:blipFill>
          <a:blip r:embed="rId1"/>
          <a:stretch/>
        </p:blipFill>
        <p:spPr>
          <a:xfrm>
            <a:off x="3719520" y="1785960"/>
            <a:ext cx="4710240" cy="439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Placeholder 11" descr="Captura de tela 2014-07-17 22.58.43.png"/>
          <p:cNvPicPr/>
          <p:nvPr/>
        </p:nvPicPr>
        <p:blipFill>
          <a:blip r:embed="rId2"/>
          <a:srcRect l="1221" t="9780" r="74242" b="2336"/>
          <a:stretch/>
        </p:blipFill>
        <p:spPr>
          <a:xfrm>
            <a:off x="357120" y="1785960"/>
            <a:ext cx="1695600" cy="4397400"/>
          </a:xfrm>
          <a:prstGeom prst="rect">
            <a:avLst/>
          </a:prstGeom>
          <a:ln w="0">
            <a:noFill/>
          </a:ln>
        </p:spPr>
      </p:pic>
      <p:sp>
        <p:nvSpPr>
          <p:cNvPr id="98" name="Rectangular Callout 4"/>
          <p:cNvSpPr/>
          <p:nvPr/>
        </p:nvSpPr>
        <p:spPr>
          <a:xfrm>
            <a:off x="2562120" y="5199120"/>
            <a:ext cx="2149560" cy="1009440"/>
          </a:xfrm>
          <a:prstGeom prst="wedgeRectCallout">
            <a:avLst>
              <a:gd name="adj1" fmla="val -79236"/>
              <a:gd name="adj2" fmla="val -90513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Em </a:t>
            </a: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Layout Options</a:t>
            </a: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 é possível customizar várias op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ular Callout 6"/>
          <p:cNvSpPr/>
          <p:nvPr/>
        </p:nvSpPr>
        <p:spPr>
          <a:xfrm>
            <a:off x="7202520" y="2928960"/>
            <a:ext cx="1941480" cy="3143160"/>
          </a:xfrm>
          <a:prstGeom prst="wedgeRectCallout">
            <a:avLst>
              <a:gd name="adj1" fmla="val -156379"/>
              <a:gd name="adj2" fmla="val -52643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A opção </a:t>
            </a:r>
            <a:r>
              <a:rPr b="1" i="1" lang="pt-BR" sz="1800" spc="-1" strike="noStrike">
                <a:solidFill>
                  <a:srgbClr val="984807"/>
                </a:solidFill>
                <a:latin typeface="Calibri"/>
              </a:rPr>
              <a:t>Maximum Word Count </a:t>
            </a: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é interessante, pois permite escolher o número de palavras que conterá a nuvem, sempre partindo das mai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6"/>
          <p:cNvSpPr/>
          <p:nvPr/>
        </p:nvSpPr>
        <p:spPr>
          <a:xfrm>
            <a:off x="500040" y="131436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ara salvar a nuvem de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 Tagxe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aptura de tela 2014-07-17 23.42.23.png"/>
          <p:cNvPicPr/>
          <p:nvPr/>
        </p:nvPicPr>
        <p:blipFill>
          <a:blip r:embed="rId1"/>
          <a:stretch/>
        </p:blipFill>
        <p:spPr>
          <a:xfrm>
            <a:off x="3060720" y="1803240"/>
            <a:ext cx="5467320" cy="369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Placeholder 11" descr="Captura de tela 2014-07-17 22.58.43.png"/>
          <p:cNvPicPr/>
          <p:nvPr/>
        </p:nvPicPr>
        <p:blipFill>
          <a:blip r:embed="rId2"/>
          <a:srcRect l="1221" t="9780" r="74242" b="2336"/>
          <a:stretch/>
        </p:blipFill>
        <p:spPr>
          <a:xfrm>
            <a:off x="376200" y="1785960"/>
            <a:ext cx="1662120" cy="435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ular Callout 4"/>
          <p:cNvSpPr/>
          <p:nvPr/>
        </p:nvSpPr>
        <p:spPr>
          <a:xfrm>
            <a:off x="2077920" y="3505320"/>
            <a:ext cx="1976400" cy="1352520"/>
          </a:xfrm>
          <a:prstGeom prst="wedgeRectCallout">
            <a:avLst>
              <a:gd name="adj1" fmla="val -61699"/>
              <a:gd name="adj2" fmla="val -103921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Para </a:t>
            </a: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Salvar a nuvem de tags</a:t>
            </a: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, selecionar a opção </a:t>
            </a: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Save /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ular Callout 6"/>
          <p:cNvSpPr/>
          <p:nvPr/>
        </p:nvSpPr>
        <p:spPr>
          <a:xfrm>
            <a:off x="5064120" y="3000240"/>
            <a:ext cx="3430440" cy="3214800"/>
          </a:xfrm>
          <a:prstGeom prst="wedgeRectCallout">
            <a:avLst>
              <a:gd name="adj1" fmla="val -93532"/>
              <a:gd name="adj2" fmla="val -56736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Há a opção de </a:t>
            </a: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salvar como imagem</a:t>
            </a: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, em vários tamanhos e formatos. É uma boa sugestão, só que não permite mais que a nuvem de tags seja mod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Há ainda outras opções, tais como salvar uma página em html, imprimir, gerar código html para incorporar em um blog ou gerar miniat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aixaDeTexto 4"/>
          <p:cNvSpPr/>
          <p:nvPr/>
        </p:nvSpPr>
        <p:spPr>
          <a:xfrm>
            <a:off x="1547640" y="278136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84807"/>
                </a:solidFill>
                <a:latin typeface="Calibri"/>
              </a:rPr>
              <a:t>Vamos montar juntos uma nuvem de tags com o Soneto de Separação de Vinícius de Mor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7"/>
          <p:cNvSpPr/>
          <p:nvPr/>
        </p:nvSpPr>
        <p:spPr>
          <a:xfrm>
            <a:off x="428760" y="15717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sista ao vídeo da canção “Pulsar”, de Caetano Veloso e Augusto de Campos, disponível em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s://www.youtube.com/watch?v=2OkbkmJ0x90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vídeo pode ser visto mais de um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notem as sensações e impressões que tiveram, ao assistir o vídeo, e as palavras que conseguiram se lembr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gitem as sensações e palavras no arquivo coletivo para criar uma única nuvem de tags com a participação de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7"/>
          <p:cNvSpPr/>
          <p:nvPr/>
        </p:nvSpPr>
        <p:spPr>
          <a:xfrm>
            <a:off x="428760" y="1571760"/>
            <a:ext cx="7929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nalisem a nuvem criada a partir da colaboração de todos e percebam quais palavras se repetiram mais vezes, de acordo com o tamanho delas na nuv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 que se destacam são palavras-chave da canção, que dão a compreensão ao 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selecione as palavras que mais chamaram a sua atenção e crie seu próprio texto a partir d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lanejamento da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428760" y="1571760"/>
            <a:ext cx="7929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junto com seus colegas, pensem em uma atividade na qual os alunos possam trabalhar textos a partir de nuvens d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Utilizem a criatividade e usem um ou mais textos ou uma ou mais nuvens de tags ou outros estímulos, como vídeos, música, fotos e imagens. Partam de uma nuvem para criar um texto, ou ao contrá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ão é necessário ter acesso à Internet o tempo todo para vivenciar esta atividade, sendo seu uso obrigatório apenas para utilizar o programa para gerar a nuvens de t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íntese e avaliação do e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7"/>
          <p:cNvSpPr/>
          <p:nvPr/>
        </p:nvSpPr>
        <p:spPr>
          <a:xfrm>
            <a:off x="428760" y="1571760"/>
            <a:ext cx="7929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nseguimos compreender como a folksonomia, forma de categorização e catalogação da Internet, pode ser utilizada no trabalho com tex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compartilhamento de ideias por meio do uso e criação de nuvens de tags pode auxiliar na formação da competência leitora e estimular a produção de text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apresentação conceitual ficou clara para vocês? E o uso do programa? Conseguiram fazer uma nuvem de tags com facilid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Foi criada a atividade para ser aplicada com seus alu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para finalizar, vamos preencher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valiação do Encontr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ixaDeTexto 7"/>
          <p:cNvSpPr/>
          <p:nvPr/>
        </p:nvSpPr>
        <p:spPr>
          <a:xfrm>
            <a:off x="428760" y="2286000"/>
            <a:ext cx="785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sã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rganizad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as informações disponíveis na Interne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Vocês acreditam qu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dentificar palavras-chave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m um texto 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verificar com que frequência elas aparece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ode ajudar na leitura e interpretação do tex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é possível fazer iss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manualment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? E, que tip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tribui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o computador poderia trazer a este proces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rguntas desaf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428760" y="1285920"/>
            <a:ext cx="271440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Refl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500040" y="1500120"/>
            <a:ext cx="7929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o imenso volume de informação disponível na Internet, nos mais diversos formatos, há vários tipos de mecanismos que as analisam e as avaliam para organizá-las de acordo com sua relevâ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ando fazemos buscas por uma determinada informação, obtemos um resultado de algo que já foi classificado e relacion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tratar e classificar as informações, é usada a folksonomia, que é a junção de duas palavras “folk” (povo, gente) e “taxonomia” (classificaçã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classificação, por sua vez, é feita por meio de palavras-chave, que na Internet são chamadas de “tags” e que em português significa “etiquet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uma forma democrática que converge com a publicação de conteúdo na web 2.0, gerados pelos próprios usu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500040" y="2000160"/>
            <a:ext cx="792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são escolhidas por um número grande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sso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espalhad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or todos o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antos do planet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probabilidade d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nteligência coletiv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classificar bem a informação é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superio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a inteligência de um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queno grupo de pesso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nalisar as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riadas pelos usuários, existem os motores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nuvens de </a:t>
            </a:r>
            <a:r>
              <a:rPr b="1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qu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lassifica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rganiza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stas etique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nuvens de 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criam um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magem hierarquizad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das informações, aumentando o tamanho das palavras de acordo com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requênci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428760" y="214308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tribui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da geração de nuvens de tags para o processo de ensino e aprendizagem baseia-se principalmente na ideia de facilitar a aquisiçã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habilidade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inerentes à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ormação do leito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os processos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decodific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auxiliando-os a decifrar um texto escrito, identificado por meio de palavras-chave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o process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preens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facilitando ao aluno entender aquilo que l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7"/>
          <p:cNvSpPr/>
          <p:nvPr/>
        </p:nvSpPr>
        <p:spPr>
          <a:xfrm>
            <a:off x="428760" y="257184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Há muitos aplicativos disponíveis na web 2.0 que criam nuvens de tags a partir de textos ou de endereços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Um dos mais completos, pois permite acentuação e inserção de imagem para o modelo da nuvem, além das formatações usuais de fonte e cor é 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agxed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:</a:t>
            </a:r>
            <a:r>
              <a:rPr b="0" lang="pt-BR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www.tagxed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4"/>
          <p:cNvSpPr/>
          <p:nvPr/>
        </p:nvSpPr>
        <p:spPr>
          <a:xfrm>
            <a:off x="500040" y="178596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cesse: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://www.tagxedo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6"/>
          <p:cNvSpPr/>
          <p:nvPr/>
        </p:nvSpPr>
        <p:spPr>
          <a:xfrm>
            <a:off x="500040" y="131436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Vamos conhecer o aplicativo para criação de nuvens de tags Tagxe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Placeholder 7" descr="Captura de tela 2014-07-17 22.57.42.png"/>
          <p:cNvPicPr/>
          <p:nvPr/>
        </p:nvPicPr>
        <p:blipFill>
          <a:blip r:embed="rId1"/>
          <a:srcRect l="0" t="-5701" r="0" b="-5701"/>
          <a:stretch/>
        </p:blipFill>
        <p:spPr>
          <a:xfrm>
            <a:off x="3071880" y="2071800"/>
            <a:ext cx="5670360" cy="42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5"/>
          <p:cNvSpPr/>
          <p:nvPr/>
        </p:nvSpPr>
        <p:spPr>
          <a:xfrm>
            <a:off x="736560" y="4467240"/>
            <a:ext cx="2111400" cy="1647720"/>
          </a:xfrm>
          <a:prstGeom prst="wedgeRectCallout">
            <a:avLst>
              <a:gd name="adj1" fmla="val 62902"/>
              <a:gd name="adj2" fmla="val -113750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Clique no botão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Create</a:t>
            </a: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 para dar início à criação da nuvem de </a:t>
            </a:r>
            <a:r>
              <a:rPr b="0" i="1" lang="en-US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6"/>
          <p:cNvSpPr/>
          <p:nvPr/>
        </p:nvSpPr>
        <p:spPr>
          <a:xfrm>
            <a:off x="500040" y="131436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ara digitar e/ou colar o texto para formar a nuvem de tags Tagxe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Placeholder 11" descr="Captura de tela 2014-07-17 22.58.43.png"/>
          <p:cNvPicPr/>
          <p:nvPr/>
        </p:nvPicPr>
        <p:blipFill>
          <a:blip r:embed="rId1"/>
          <a:srcRect l="1221" t="0" r="1221" b="0"/>
          <a:stretch/>
        </p:blipFill>
        <p:spPr>
          <a:xfrm>
            <a:off x="585720" y="1849320"/>
            <a:ext cx="5619960" cy="421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ular Callout 5"/>
          <p:cNvSpPr/>
          <p:nvPr/>
        </p:nvSpPr>
        <p:spPr>
          <a:xfrm>
            <a:off x="6500880" y="3786120"/>
            <a:ext cx="1903320" cy="1862280"/>
          </a:xfrm>
          <a:prstGeom prst="wedgeRectCallout">
            <a:avLst>
              <a:gd name="adj1" fmla="val -291750"/>
              <a:gd name="adj2" fmla="val -92157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digitar ou colar o texto para a geração da nuvem de tags, selecione o botã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Tagx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Placeholder 2" descr="Captura de tela 2014-07-17 22.59.28.png"/>
          <p:cNvPicPr/>
          <p:nvPr/>
        </p:nvPicPr>
        <p:blipFill>
          <a:blip r:embed="rId1"/>
          <a:srcRect l="2931" t="0" r="2931" b="0"/>
          <a:stretch/>
        </p:blipFill>
        <p:spPr>
          <a:xfrm>
            <a:off x="1278000" y="1285920"/>
            <a:ext cx="6508800" cy="4881600"/>
          </a:xfrm>
          <a:prstGeom prst="rect">
            <a:avLst/>
          </a:prstGeom>
          <a:ln w="0">
            <a:noFill/>
          </a:ln>
        </p:spPr>
      </p:pic>
      <p:sp>
        <p:nvSpPr>
          <p:cNvPr id="76" name="Rectangular Callout 5"/>
          <p:cNvSpPr/>
          <p:nvPr/>
        </p:nvSpPr>
        <p:spPr>
          <a:xfrm>
            <a:off x="5075280" y="4786200"/>
            <a:ext cx="1496880" cy="1428840"/>
          </a:xfrm>
          <a:prstGeom prst="wedgeRectCallout">
            <a:avLst>
              <a:gd name="adj1" fmla="val -62319"/>
              <a:gd name="adj2" fmla="val -108384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1. Copie e cole o texto selecionado, ou dig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ular Callout 6"/>
          <p:cNvSpPr/>
          <p:nvPr/>
        </p:nvSpPr>
        <p:spPr>
          <a:xfrm>
            <a:off x="7031160" y="4929120"/>
            <a:ext cx="1950840" cy="1357560"/>
          </a:xfrm>
          <a:prstGeom prst="wedgeRectCallout">
            <a:avLst>
              <a:gd name="adj1" fmla="val -38314"/>
              <a:gd name="adj2" fmla="val -100037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2. Clique no botão Submit para gerar a nuvem de </a:t>
            </a: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ular Callout 7"/>
          <p:cNvSpPr/>
          <p:nvPr/>
        </p:nvSpPr>
        <p:spPr>
          <a:xfrm>
            <a:off x="5075280" y="1714680"/>
            <a:ext cx="1706400" cy="1357200"/>
          </a:xfrm>
          <a:prstGeom prst="wedgeRectCallout">
            <a:avLst>
              <a:gd name="adj1" fmla="val 88476"/>
              <a:gd name="adj2" fmla="val 21356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3. Clique no X para visualizar a nuvem d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ular Callout 8"/>
          <p:cNvSpPr/>
          <p:nvPr/>
        </p:nvSpPr>
        <p:spPr>
          <a:xfrm>
            <a:off x="274680" y="3857760"/>
            <a:ext cx="1950840" cy="2244600"/>
          </a:xfrm>
          <a:prstGeom prst="wedgeRectCallout">
            <a:avLst>
              <a:gd name="adj1" fmla="val 120837"/>
              <a:gd name="adj2" fmla="val -80069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bs:  Se quiser gerar uma nuvem de </a:t>
            </a: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do conteúdo de uma página web, dite o endereço neste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ular Callout 9"/>
          <p:cNvSpPr/>
          <p:nvPr/>
        </p:nvSpPr>
        <p:spPr>
          <a:xfrm>
            <a:off x="281160" y="1357200"/>
            <a:ext cx="1950840" cy="2357640"/>
          </a:xfrm>
          <a:prstGeom prst="wedgeRectCallout">
            <a:avLst>
              <a:gd name="adj1" fmla="val 119703"/>
              <a:gd name="adj2" fmla="val 15814"/>
            </a:avLst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bs:  Se quiser gerar uma nuvem de </a:t>
            </a: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tag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a partir de um arquivo, clique neste botão para selecioná-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0:31:07Z</dcterms:created>
  <dc:creator>Augusto</dc:creator>
  <dc:description/>
  <dc:language>en-US</dc:language>
  <cp:lastModifiedBy>Ju Ribeiro</cp:lastModifiedBy>
  <dcterms:modified xsi:type="dcterms:W3CDTF">2014-09-08T18:41:38Z</dcterms:modified>
  <cp:revision>165</cp:revision>
  <dc:subject/>
  <dc:title>Slide 1</dc:title>
</cp:coreProperties>
</file>